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0D1-29E2-4571-984F-A338EFB5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1AF-826D-4E06-9ACF-5B18B3FE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A8A-89C3-4A28-A1D0-29909C76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81D-B814-447E-9497-570E8621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19F-CE79-432E-88B9-D97878F5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8EB-E71F-485C-8BA2-44F9958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461-EF78-403E-B992-5FFE0A4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3F0-2006-4FC6-A79A-62467F8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7A9-D815-44DA-B926-9229A8B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00A-D298-4F16-9773-3B07A9F8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03E-FEDF-4BE1-966D-E78A870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0EC-2BCD-4EC0-9FEA-9ACFA9E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C8F9-7BFF-49B7-AF6B-FE8394CA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hyperlink" Target="http://www.criticsrant.com/Images/criticsrant_com/TV_Big_Brother8/big_brother_main.jpg" TargetMode="External"/><Relationship Id="rId15" Type="http://schemas.openxmlformats.org/officeDocument/2006/relationships/image" Target="../media/image9.png"/><Relationship Id="rId16" Type="http://schemas.openxmlformats.org/officeDocument/2006/relationships/hyperlink" Target="http://www.criticsrant.com/Images/criticsrant_com/TV_Big_Brother8/big_brother_main.jpg" TargetMode="External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2.jpeg"/><Relationship Id="rId20" Type="http://schemas.openxmlformats.org/officeDocument/2006/relationships/image" Target="../media/image13.png"/><Relationship Id="rId21" Type="http://schemas.openxmlformats.org/officeDocument/2006/relationships/image" Target="../media/image14.jpeg"/><Relationship Id="rId22" Type="http://schemas.openxmlformats.org/officeDocument/2006/relationships/image" Target="../media/image15.jpe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322800">
            <a:off x="6324480" y="3048120"/>
            <a:ext cx="1378080" cy="2028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176" t="11671" r="2176" b="1504"/>
          <a:stretch/>
        </p:blipFill>
        <p:spPr>
          <a:xfrm>
            <a:off x="5105520" y="37339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357800">
            <a:off x="4647960" y="30492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51177"/>
          <a:stretch/>
        </p:blipFill>
        <p:spPr>
          <a:xfrm rot="290400">
            <a:off x="3581280" y="45684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0" r="0" b="47421"/>
          <a:stretch/>
        </p:blipFill>
        <p:spPr>
          <a:xfrm>
            <a:off x="2133720" y="762120"/>
            <a:ext cx="13777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0224800">
            <a:off x="1143000" y="1676520"/>
            <a:ext cx="13780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799800">
            <a:off x="1295280" y="1600200"/>
            <a:ext cx="2171880" cy="217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581280" y="56386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883800">
            <a:off x="5181120" y="2514600"/>
            <a:ext cx="1378080" cy="202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077600">
            <a:off x="4190760" y="3276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rot="20856600">
            <a:off x="609480" y="4038120"/>
            <a:ext cx="1378080" cy="202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20727000">
            <a:off x="1371240" y="373356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0" t="17254" r="0" b="0"/>
          <a:stretch/>
        </p:blipFill>
        <p:spPr>
          <a:xfrm rot="365400">
            <a:off x="2362320" y="1447920"/>
            <a:ext cx="476244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 rot="2122200">
            <a:off x="7221600" y="466560"/>
            <a:ext cx="1981080" cy="92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20422200">
            <a:off x="201600" y="5489640"/>
            <a:ext cx="11700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 rot="20649600">
            <a:off x="230040" y="2532240"/>
            <a:ext cx="987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 rot="1896600">
            <a:off x="7314840" y="3200400"/>
            <a:ext cx="1619280" cy="6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0"/>
          <a:stretch/>
        </p:blipFill>
        <p:spPr>
          <a:xfrm rot="400200">
            <a:off x="6019920" y="52578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 rot="20316000">
            <a:off x="252000" y="45216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 rot="1881000">
            <a:off x="7486200" y="56437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rcRect l="0" t="0" r="0" b="51177"/>
          <a:stretch/>
        </p:blipFill>
        <p:spPr>
          <a:xfrm rot="1044600">
            <a:off x="7765560" y="228564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rcRect l="0" t="0" r="0" b="51177"/>
          <a:stretch/>
        </p:blipFill>
        <p:spPr>
          <a:xfrm rot="1608600">
            <a:off x="8000640" y="480060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rcRect l="0" t="0" r="0" b="69956"/>
          <a:stretch/>
        </p:blipFill>
        <p:spPr>
          <a:xfrm rot="20257200">
            <a:off x="0" y="0"/>
            <a:ext cx="13780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rcRect l="0" t="0" r="0" b="58689"/>
          <a:stretch/>
        </p:blipFill>
        <p:spPr>
          <a:xfrm rot="21237600">
            <a:off x="-9360" y="1752480"/>
            <a:ext cx="1377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6:33Z</dcterms:created>
  <dc:creator>Craig Thornburg</dc:creator>
  <dc:description/>
  <dc:language>en-US</dc:language>
  <cp:lastModifiedBy>Gateway_User</cp:lastModifiedBy>
  <dcterms:modified xsi:type="dcterms:W3CDTF">2008-04-20T00:27:59Z</dcterms:modified>
  <cp:revision>10</cp:revision>
  <dc:subject/>
  <dc:title>Slide 1</dc:title>
</cp:coreProperties>
</file>